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64900"/>
        <c:axId val="5155255"/>
      </c:barChart>
      <c:catAx>
        <c:axId val="68464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5255"/>
        <c:crosses val="autoZero"/>
        <c:auto val="1"/>
        <c:lblAlgn val="ctr"/>
        <c:lblOffset val="100"/>
        <c:noMultiLvlLbl val="0"/>
      </c:catAx>
      <c:valAx>
        <c:axId val="5155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4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C77-00D0-476C-BF52-23C18DCB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7B5-1A12-4E3F-8346-1F267640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750-46CE-48B3-B962-22C3AFCB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730-CD3C-4A0E-ADEC-BDEAE22B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60-CC72-46F9-82F4-9E041E8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D9E-1E3E-4B89-B762-C70941E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7BD-7035-4380-AE68-8AE414B4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038-3980-484C-86BB-197CEB72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232-EE01-4E61-8937-0111A102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A1F-4A4B-4C56-8AD7-AFF331F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E50-0B48-4E09-AB30-1DA5EC6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27A-1947-48CB-8D7D-EB0CC722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EE64-1A3A-46DF-850A-09750BF6B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