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39391"/>
        <c:axId val="89400265"/>
      </c:barChart>
      <c:catAx>
        <c:axId val="19839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00265"/>
        <c:crosses val="autoZero"/>
        <c:auto val="1"/>
        <c:lblAlgn val="ctr"/>
        <c:lblOffset val="100"/>
        <c:noMultiLvlLbl val="0"/>
      </c:catAx>
      <c:valAx>
        <c:axId val="89400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39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98D-57EB-437A-BB6F-61094618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577-65EA-4D9E-8642-69D2F8BC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9A0-8499-4619-9DC1-56616AFD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9A6-BF19-4039-948A-17631D4E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4BD-4267-44FB-AF3A-A7A4C4C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763-770C-4B2F-9D78-5EE8F164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4F9-83E4-4743-AFED-33E1FC5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7DE-6A7B-449B-B6C6-A4B804EF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D28-EFBE-4A05-9513-C143CA8E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073-765D-40BD-8135-284C7880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E4B-0A3F-46CB-914C-CA6C0139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221-B9E5-4064-8FC6-26E4131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A5455-F298-4897-9FFE-775C0C6BD5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