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29156"/>
        <c:axId val="73476431"/>
      </c:barChart>
      <c:catAx>
        <c:axId val="40229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76431"/>
        <c:crosses val="autoZero"/>
        <c:auto val="1"/>
        <c:lblAlgn val="ctr"/>
        <c:lblOffset val="100"/>
        <c:noMultiLvlLbl val="0"/>
      </c:catAx>
      <c:valAx>
        <c:axId val="73476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29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11C-D533-4B3B-A624-F7F7E2C1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A70-3044-4588-A2E6-9467AE4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762-BC1C-4D37-95A2-24849489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9B6-937A-434D-9013-B0E5A840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083-D4E0-4970-A1D7-EFAA746E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687-F6BC-41F0-9249-E44520FD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63D-D133-4A5F-ACAA-1BF8F5D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A10-52DB-4D1A-954E-4B1AC4AF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5BA-9DD8-42C5-8A1C-528D273C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80D-D2B1-4CD1-AE89-DE07295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865-E216-41D9-B510-694AD6E1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169-1F98-48FA-A119-D8AEA979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08A74-F0A9-4089-8B9F-6000281D1C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