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00889"/>
        <c:axId val="76580136"/>
      </c:barChart>
      <c:catAx>
        <c:axId val="55100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80136"/>
        <c:crosses val="autoZero"/>
        <c:auto val="1"/>
        <c:lblAlgn val="ctr"/>
        <c:lblOffset val="100"/>
        <c:noMultiLvlLbl val="0"/>
      </c:catAx>
      <c:valAx>
        <c:axId val="76580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0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428-BA2D-416B-BE84-1493F435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B36-14CD-409D-A452-D54113C2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F08-9CAC-4B54-ADAB-398AB248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B4C-52E2-4328-882D-EE3A9E0A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CA7-22BA-442F-B52B-84B245E1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D98-B3E8-4488-B94D-F7E37DD6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1BC-25B8-4323-B39C-0859B22E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7E7-D356-4084-A97E-F56B89E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A62-2659-45DE-9ED4-5807F87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404-ABA8-4DC2-9A6A-E39E359E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065-F299-414F-97EB-5A455CFC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DC5-4749-417B-8062-041719DC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4E78-312B-41E5-A1AC-1385E3C012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