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79794"/>
        <c:axId val="4006874"/>
      </c:barChart>
      <c:catAx>
        <c:axId val="41679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6874"/>
        <c:crosses val="autoZero"/>
        <c:auto val="1"/>
        <c:lblAlgn val="ctr"/>
        <c:lblOffset val="100"/>
        <c:noMultiLvlLbl val="0"/>
      </c:catAx>
      <c:valAx>
        <c:axId val="4006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9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D0C-340F-4F14-AE78-9F8F7F6F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4B5-B103-4786-862F-4EB2718D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61E-D519-4239-8680-C5F80DE8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E37-682A-453C-891D-3ECAD054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7BB-ACCF-4139-8C82-448CAE2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C30-D97B-40C9-9399-341DD87B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ECB-700A-4485-A3A0-6FAAA7E4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7D5-FB7F-47AB-BC07-B1B4658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E99-02C2-4192-A65A-F15AF280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FB2-54D4-4903-AC11-5AEC46E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0FB-38CC-489A-A204-E6778BF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523-D181-45A5-B24C-7CDC4DA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B8A4D-276C-4FC9-B25E-773A12CBE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