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00807"/>
        <c:axId val="39274344"/>
      </c:barChart>
      <c:catAx>
        <c:axId val="68400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74344"/>
        <c:crosses val="autoZero"/>
        <c:auto val="1"/>
        <c:lblAlgn val="ctr"/>
        <c:lblOffset val="100"/>
        <c:noMultiLvlLbl val="0"/>
      </c:catAx>
      <c:valAx>
        <c:axId val="392743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00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D56-1A56-462E-A02F-A25B1EE1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F8F-26AE-4768-96A9-93C9303B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062-3820-4B63-B924-230774EA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CE25-C776-4E2F-95A8-A310F1BA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48B-B8DE-4002-8765-D1A46FF5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986-D49C-457A-A745-B5E1B804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201-C0A8-4499-BD5B-932B9DDD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4E4-1923-46F2-90AF-72696D11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0DD-ABF4-4411-B993-503F1FD8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EFCF-2F74-40D2-AE7F-2587249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6DB-6EC7-47A2-B3D8-F99865FD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2EF-25CF-43CE-AAB9-808AA7D3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C7C04-21BA-4405-9064-9404AE1A7C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