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34902"/>
        <c:axId val="76354589"/>
      </c:barChart>
      <c:catAx>
        <c:axId val="36134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54589"/>
        <c:crosses val="autoZero"/>
        <c:auto val="1"/>
        <c:lblAlgn val="ctr"/>
        <c:lblOffset val="100"/>
        <c:noMultiLvlLbl val="0"/>
      </c:catAx>
      <c:valAx>
        <c:axId val="76354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34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8D8-986A-43D4-9A40-705D42CF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EAB-F952-445E-AEFA-1B2DCA59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EC8-A0B6-4A73-9BF3-4741A2DC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4B7-3E95-4404-87BF-6C558E24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B6B-4EF2-4E01-BBD7-B3FAC1C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6BF-A2D5-46C8-BD55-202A746F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183-723E-4D72-BF35-904DEDC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E57-F27D-4FA9-A2C9-BCE6063B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97A-A3EB-4C80-9CCB-D64936C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044-A52A-44F6-976A-3AD3D27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892-AC2E-4D13-9B35-D7C941D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476-5B9C-429F-9D28-7D9784C0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A7DF3-2D74-4E79-9A53-0D8F6175C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