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98523"/>
        <c:axId val="78630795"/>
      </c:barChart>
      <c:catAx>
        <c:axId val="551985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30795"/>
        <c:crosses val="autoZero"/>
        <c:auto val="1"/>
        <c:lblAlgn val="ctr"/>
        <c:lblOffset val="100"/>
        <c:noMultiLvlLbl val="0"/>
      </c:catAx>
      <c:valAx>
        <c:axId val="78630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985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78C4-1459-4B1D-957A-B6E84453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2495-58DA-4BFF-B39E-64622859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7BB-3881-4D60-867F-4FDD9036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D80-3D9C-49C3-AF7B-EFEF6631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C90A-0419-4905-93F6-1B6CC012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E1F5-06E9-4ADA-B53B-72C10077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07B9-1E97-45A6-B87A-AD56D760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7AC-C325-4033-95DE-D0478006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BAAF-59D3-4E69-8BDC-254CDC20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901-60A3-4C05-B667-737EFD1B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B9F-3820-4B43-8503-67561258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94D-E8F3-4089-A0B1-9390CE14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D51AF-8681-4556-B3A9-14D020849C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