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14601"/>
        <c:axId val="15110025"/>
      </c:barChart>
      <c:catAx>
        <c:axId val="19814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10025"/>
        <c:crosses val="autoZero"/>
        <c:auto val="1"/>
        <c:lblAlgn val="ctr"/>
        <c:lblOffset val="100"/>
        <c:noMultiLvlLbl val="0"/>
      </c:catAx>
      <c:valAx>
        <c:axId val="15110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14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8B9-A6F2-47E9-8BE9-FF79C1F4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2DC-7718-451B-B2CB-E8B25016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E7F-9544-42A4-9B10-FD0F3F7B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803-4000-4D51-819B-D9D480D7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EEF-A1AE-473B-83C3-4CBE8F4D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207-04AE-4A3A-B734-4998D8E0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5A9-D9F2-406E-A07E-686D9BCA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7C9-6BA7-4A8A-8521-E4FE3ACD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ADC-7219-4033-B6BC-12D5CA70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F11-44D3-4429-9035-48034295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425-C7C9-419D-B037-6B0C9E1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CA8-C356-4210-B463-57F70AB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B19BD-539C-4E02-A0B7-E436378D74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