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14852"/>
        <c:axId val="5956603"/>
      </c:barChart>
      <c:catAx>
        <c:axId val="23148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56603"/>
        <c:crosses val="autoZero"/>
        <c:auto val="1"/>
        <c:lblAlgn val="ctr"/>
        <c:lblOffset val="100"/>
        <c:noMultiLvlLbl val="0"/>
      </c:catAx>
      <c:valAx>
        <c:axId val="59566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148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92F5-1971-49D0-9A47-2B94FEEEB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C6AC-F4BD-474C-BFED-4A6FC2B0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FC5E-EDDB-4454-A2DE-FBEDFCCFC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6C97-A1C6-4993-8AB6-F88E334F2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864E-A5E0-4B9B-AFA6-9771BDC8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E02E-07BB-48EE-B4EF-3BE63800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F7C2-1636-4CB6-B1F2-86D8DEC6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0EFD-DCBE-4794-87FF-9F8F0D89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5DDF-08F2-47E4-88CB-28049D5A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2FF9-FA36-4FF4-B01D-2A958CDD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1C02-86BF-4437-864C-689FB43D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9C56-4410-40FE-9597-1C724986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54451-82D8-4738-BE65-725D74C541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