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84396"/>
        <c:axId val="71176011"/>
      </c:barChart>
      <c:catAx>
        <c:axId val="86184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6011"/>
        <c:crosses val="autoZero"/>
        <c:auto val="1"/>
        <c:lblAlgn val="ctr"/>
        <c:lblOffset val="100"/>
        <c:noMultiLvlLbl val="0"/>
      </c:catAx>
      <c:valAx>
        <c:axId val="71176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84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510-9138-4377-A884-8B5A6CD8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11B-0EED-43FD-AF65-5BCF7DC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210-B9F3-4581-A606-01F92300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5EE-ED7F-4F76-B6C5-4CBD4407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082-CEC4-463B-BE83-1DDF05F2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9B2-AD8F-4AD6-BF21-211D6A4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60B-E581-47A9-966B-4639E3A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E5F-1A5A-475C-968B-DBAB956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E7D-BF8A-4CC0-B2F5-1520A355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A46-38C1-4496-AED0-A545114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73F-DD4A-4F0E-90D8-4E8E892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349-B73A-4E5D-9DC0-3511FAB6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D664D-6FB2-49F8-9EBB-B656AB5DF6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