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98839"/>
        <c:axId val="4604773"/>
      </c:barChart>
      <c:catAx>
        <c:axId val="34598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4773"/>
        <c:crosses val="autoZero"/>
        <c:auto val="1"/>
        <c:lblAlgn val="ctr"/>
        <c:lblOffset val="100"/>
        <c:noMultiLvlLbl val="0"/>
      </c:catAx>
      <c:valAx>
        <c:axId val="4604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98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029E-DE5A-4062-884D-6D42C35C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281-F5EF-484E-9103-F4B5CC91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77A-93DF-4451-8848-7F3ED86C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75E0-A93D-4369-90C6-A8C485E9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0F5-5DD6-44F3-857D-51FFFBB4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83A-BD39-425F-87DA-EF2A7373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DDC3-D957-4A29-BC55-17B9AE64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2FD-72E0-4EC1-B74D-35885B48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0B3C-30E2-48EC-8C9D-9179C460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EB05-551F-4783-A6A6-54180312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E52-93ED-49DA-9173-CC2650AE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57D-F76B-4CD6-A0F2-B5F96FFB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F0B5D-09F3-491D-A4AE-8C156DBA08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