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C774-FF48-4BED-86A4-691443304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360C-6CF4-4B20-9AEB-FC45D9B44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7D0F-5DD2-4918-9DB1-701A131E0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B8D9-AC14-44F2-86A8-8D5AA1B99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0CF7C-EDE3-4E58-B823-D300F8E16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2D363-9DC7-48FF-A914-E98B63F84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C3B49-E84D-4870-A64E-25459FDE1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58743-A717-450C-A81B-3C4A25B42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91F47-824B-4F71-808C-9C1116D69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3548F-1A46-42E9-B6B7-A534530D6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17A13-1118-4E21-86D8-D4873AF79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CD55-2648-44A9-A1AA-3FAE53569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70298-2F06-4A13-8DDE-FDC9F6436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06E11-87E2-423D-8B34-29630DBEF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38884-0A69-457D-BFF9-D7D3B7E53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07F25-5BE5-41CA-A5EC-BA75683B0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205A7-0854-4536-A74F-B163FDE4D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B287-C7EB-4630-BF84-9260F6FC5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F438-42BC-4343-B68C-4442A7400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621D-9885-4734-8464-705634D1A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75EA-D075-41E2-9FC0-C81656DDB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57C6-A19E-4BDF-975B-FD821737F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F4AD-BAC6-48BD-8694-F98D95BF3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E13D-D5B2-407C-A8A4-38B88C773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C94D3-8E33-4953-A22E-1E3AB269D123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990720" y="6248520"/>
            <a:ext cx="76975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&lt;footer&gt;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Parallelizing John the Ripper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       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Spring 2004: GCMPS 240A: Project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50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3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arallelizing</a:t>
            </a:r>
            <a:br>
              <a:rPr sz="2800"/>
            </a:b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John the Ripper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By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Andy Pippin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Brendon Hall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Wilson Chen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982F7-1DE5-42A9-9CDD-4F79A7B1DFE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Result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752480" y="2238480"/>
            <a:ext cx="6248520" cy="4187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6F88-59F9-40E0-9C73-1B16E219EB5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Conclusion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chieved nearly linear speedup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ork sharing provides good trade-off between load balancing and complexity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D28B-BA06-4EFE-85CD-6CE2A295DE2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Introduction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urpose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reate a tool for system administrators so they can quickly scan for weak password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nderstand how to parallelize existing serial progra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A76F-6F49-4806-904A-814725396A0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assword Cracking Method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rute-forc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nfallible, though time consuming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8 character passwords with 95 different characters = 6 trillion unique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ctiona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uses pre-defined word list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ossible”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ules can be incorporat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90A2-3A20-4C4C-BA91-FB950DA3B41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revious Work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ablecrack (SDSC, 1997) and Teracrack (SDSC, 2000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yan Lim (UNL, 2003) parallelized John the Ripper (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) for brute-force attack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for cracking single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C66C-621A-4B67-A737-8A123D626D0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Our Approach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arallelize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for dictionary style attack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Check for weak passwords quickl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inimize modifications to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core cod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ncentrate on an efficient parallel implementa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ECF4-79AE-4478-A8F7-3CC633722BF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UNIX Password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2 - NIST wanted a cryptographic algorithm for non-classified informa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4 - IBM submitted “Lucifer” (128-bit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6 - Data Encryption Standard (56-bit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idely adopted by industr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un Microsystem’s uses DES in their distributed password scheme: NI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Example of an /etc/passwd entry using DE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user:HFnZbS4XGNtEM:12015:12:John Doe,,,COMS,Graduate:/cs/student/user:/bin/tcsh</a:t>
            </a: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0D79-3629-4025-92EC-C235CC8C631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arallelization Scheme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stribute the Dictiona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ess memory, but more coordina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stribute the password fil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quires more memory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oad balancing issu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assumes every password is of the same difficulty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413A-ED84-457C-8BA6-078192A22BF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Our Method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‘Poker Dealer’ (work shar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and out encrypted password as requir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quires each process to have complete dictionary in memor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asswords with the same salt are given to one processo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BBBE-1A72-4289-BED9-40E9FF57411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erformance Metric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racks/Sec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reported by </a:t>
            </a: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Jt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arallel version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adds value reported by each worker process, recalculates to account for communication tim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7ECB-D895-4BA9-9D15-873B01FA5C3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1T21:57:01Z</dcterms:created>
  <dc:creator/>
  <dc:description/>
  <dc:language>en-US</dc:language>
  <cp:lastModifiedBy>Admin</cp:lastModifiedBy>
  <dcterms:modified xsi:type="dcterms:W3CDTF">2004-06-02T06:57:17Z</dcterms:modified>
  <cp:revision>17</cp:revision>
  <dc:subject/>
  <dc:title>Parallelizing "John the Ripper"Ripper"</dc:title>
</cp:coreProperties>
</file>